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F2BD-62EF-423E-988F-87FAC0CA3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8B61-E5EB-447C-9443-3C703C921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397D-676E-41AD-BCED-B62400734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F7F2-3C1C-4777-9345-08360CC9F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3007-F6EB-42B0-8E61-AE86A321B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6A5D-5A10-4C62-8CAB-7C41B9958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1E9E-A97F-4D2F-8C28-DEEACD5FF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21A6-7536-4AA6-ACDB-D29F47CF2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B7ED-61FC-4225-A10A-241AFE63E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1CCE-C80B-4526-BB29-1F9E64A6D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10B4-2366-4524-BF73-B058A46BC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2BEA-6643-4146-A9EF-C64D12DB0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37765-22F3-4622-8A92-8E1742C5D3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Representation Rec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Learning Objective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Revise key terms and concepts related to represent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Timed Practi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64720" cy="16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Section B:</a:t>
            </a: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Contemporary Media Issu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0560" y="177336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ection B of the Critical Perspectives exam is based on the set topic,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Media and Collective Ident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e will be studying a range of texts, theories and debates whilst focussing on several in class case stud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You will also be asked to conduct some individual research on your own case stud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reas of stud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65188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exam board ask each student to consider a set of prompt questions for each topic, which they will be expected to respond to in the ex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the Media and Collective Identity topic these are the ques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How do contemporary media represent collective nations/regions in different way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How do contemporary representations compare to previous time period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What are the social implications of different representa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To what extent is human identity increasingly ‘mediated’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e will be working our way through these questions over the ter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2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20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" dur="20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200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2000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Re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8713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What is meant by representatio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rebuchet MS"/>
              </a:rPr>
              <a:t>In the media representations are often thought of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rebuchet MS"/>
              </a:rPr>
              <a:t>as ‘re-presentations’ of a particular social group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rebuchet MS"/>
              </a:rPr>
              <a:t>They are seen by some media theorists  as ‘soci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rebuchet MS"/>
              </a:rPr>
              <a:t>constructions’, presented to us by the media a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rebuchet MS"/>
              </a:rPr>
              <a:t>the truth!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During A2 Media we will hope to gain a deep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understanding of representational issues and th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rebuchet MS"/>
              </a:rPr>
              <a:t>‘</a:t>
            </a:r>
            <a:r>
              <a:rPr b="0" i="1" lang="en-US" sz="2600" spc="-1" strike="noStrike">
                <a:solidFill>
                  <a:srgbClr val="000000"/>
                </a:solidFill>
                <a:latin typeface="Trebuchet MS"/>
              </a:rPr>
              <a:t>fluidity of representation’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Basic application of represent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rebuchet MS"/>
              </a:rPr>
              <a:t>Watch the opening of </a:t>
            </a:r>
            <a:r>
              <a:rPr b="1" i="1" lang="en-GB" sz="2000" spc="-1" strike="noStrike">
                <a:solidFill>
                  <a:srgbClr val="000000"/>
                </a:solidFill>
                <a:latin typeface="Trebuchet MS"/>
              </a:rPr>
              <a:t>‘Mean Girls’</a:t>
            </a:r>
            <a:r>
              <a:rPr b="1" lang="en-GB" sz="2000" spc="-1" strike="noStrike">
                <a:solidFill>
                  <a:srgbClr val="000000"/>
                </a:solidFill>
                <a:latin typeface="Trebuchet MS"/>
              </a:rPr>
              <a:t> and consider the representation of the following demographic factor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rebuchet MS"/>
              </a:rPr>
              <a:t>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rebuchet MS"/>
              </a:rPr>
              <a:t>Gen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rebuchet MS"/>
              </a:rPr>
              <a:t>Ethni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rebuchet MS"/>
              </a:rPr>
              <a:t>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rebuchet MS"/>
              </a:rPr>
              <a:t>Sexua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rebuchet MS"/>
              </a:rPr>
              <a:t>Consider some of the key terms from the test and make not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Task: from your notes you will 30 minutes to answer t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following ques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rebuchet MS"/>
              </a:rPr>
              <a:t>How is the issue of representation approached in the opening 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rebuchet MS"/>
              </a:rPr>
              <a:t>‘</a:t>
            </a:r>
            <a:r>
              <a:rPr b="1" i="1" lang="en-GB" sz="2000" spc="-1" strike="noStrike">
                <a:solidFill>
                  <a:srgbClr val="000000"/>
                </a:solidFill>
                <a:latin typeface="Trebuchet MS"/>
              </a:rPr>
              <a:t>Mean Girls’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31T13:07:06Z</dcterms:created>
  <dc:creator>gokul</dc:creator>
  <dc:description/>
  <dc:language>en-US</dc:language>
  <cp:lastModifiedBy>ppermaul.316</cp:lastModifiedBy>
  <dcterms:modified xsi:type="dcterms:W3CDTF">2010-09-08T13:59:15Z</dcterms:modified>
  <cp:revision>20</cp:revision>
  <dc:subject/>
  <dc:title>Representation In Soap Opera</dc:title>
</cp:coreProperties>
</file>